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72EE-C5CA-4160-9D57-7697B165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8FCA-D2A5-440B-92C2-356D942A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8473-B2BC-4A98-BB78-CA3CAC27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574-9820-46D2-8CCE-C1452677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D90B-0360-477E-BCD6-18DED1D5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09C7-A22E-4676-A0BF-6FE992B6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B6E1-2345-4A0F-8A5C-A1226A6E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C8F-399F-4B75-81CC-DDDB6176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5AC7-EB8E-4626-9EA7-F839071A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84C4-754E-4E64-863F-9167D03C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C6A-8030-48D4-A0B7-A6AD3CEC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C1B-D3B8-48C2-91E0-43586927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862D-1498-4517-A153-C74B5F818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ssil Fold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388584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websites below to read about different foss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questions 1-4 for each type of fossil sh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ucmp.berkeley.edu/paleo/fossils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zoomschool.com/subjects/dinosaurs/dinofossils/Fossiltype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191120" y="3808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he entire stack 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ree half sheets on top of your stack and three behind your st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 Staple together down the left 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457200" y="1905120"/>
            <a:ext cx="3505320" cy="464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048120" y="2666880"/>
            <a:ext cx="914400" cy="32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048120" y="4724280"/>
            <a:ext cx="91440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048120" y="5410080"/>
            <a:ext cx="914400" cy="609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048120" y="33526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3048120" y="4038480"/>
            <a:ext cx="9144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3048120" y="2666880"/>
            <a:ext cx="9144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3048120" y="6019920"/>
            <a:ext cx="914400" cy="533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Your Fold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666880" y="1523880"/>
            <a:ext cx="3810240" cy="487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TO THE 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pen to the first page – write the following information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362320" y="1447920"/>
            <a:ext cx="4267080" cy="5105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LEONT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udy of past life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eontologists u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ssi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y past life fo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eserved remains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of a living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parts of an organism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d (bone, teet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 parts decay or get ea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scle, skin, fu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ssils are found in sedimentary r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igneous or metamorphic r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 to the second p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362320" y="1371600"/>
            <a:ext cx="4495680" cy="502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 fossils for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Organism 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Organism gets bur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Sediments harden/preserve cr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can fossils tell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life has changed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s of timeline are m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because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ssils were destroyed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s haven’t been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es to past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e 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pical Plants = warm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ine Fossils on Moun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cient Coas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 to the second to last p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209680" y="1600200"/>
            <a:ext cx="4800600" cy="502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index fossi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ssils of a creature that exist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period of time, the fossil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in a limited number of rock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an index fossil, a fossil mu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found in rock layers all over the wor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can they tell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determine the age of rock layer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low a fossil, we know the time span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the organisms li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most fam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x fossil?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LOB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lobites -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hac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inct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st relative is a horseshoe cr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 m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find this fossil we know the rock layer is _____ million years ol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Phacops-speculator-1600"/>
          <p:cNvPicPr/>
          <p:nvPr/>
        </p:nvPicPr>
        <p:blipFill>
          <a:blip r:embed="rId1"/>
          <a:stretch/>
        </p:blipFill>
        <p:spPr>
          <a:xfrm>
            <a:off x="4648320" y="3200400"/>
            <a:ext cx="4248000" cy="318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tri_phacops_mor_ping"/>
          <p:cNvPicPr/>
          <p:nvPr/>
        </p:nvPicPr>
        <p:blipFill>
          <a:blip r:embed="rId2"/>
          <a:stretch/>
        </p:blipFill>
        <p:spPr>
          <a:xfrm>
            <a:off x="5591160" y="457200"/>
            <a:ext cx="3552840" cy="26258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7"/>
          <p:cNvSpPr/>
          <p:nvPr/>
        </p:nvSpPr>
        <p:spPr>
          <a:xfrm>
            <a:off x="-24120" y="76320"/>
            <a:ext cx="92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lace this information on the inside of the Back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o ahead and setup your foldable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rite each type of fossil on one ta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er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 Pit/Asph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s &amp; 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rolites/Gastroliths/Dr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swer the following for each fossil type.  Write the information on the front of each 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(n) __________ foss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we learn from a ______ foss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this fossil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examples of this foss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couple of pictures of ______foss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at Era did this animal(now fossilized)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137160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bee in amber"/>
          <p:cNvPicPr/>
          <p:nvPr/>
        </p:nvPicPr>
        <p:blipFill>
          <a:blip r:embed="rId1"/>
          <a:stretch/>
        </p:blipFill>
        <p:spPr>
          <a:xfrm>
            <a:off x="0" y="0"/>
            <a:ext cx="5638680" cy="5638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Weevil in Dominican Fossil Amber"/>
          <p:cNvPicPr/>
          <p:nvPr/>
        </p:nvPicPr>
        <p:blipFill>
          <a:blip r:embed="rId2"/>
          <a:stretch/>
        </p:blipFill>
        <p:spPr>
          <a:xfrm>
            <a:off x="4724280" y="1576440"/>
            <a:ext cx="4419720" cy="5281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praying-mantis-a-1024"/>
          <p:cNvPicPr/>
          <p:nvPr/>
        </p:nvPicPr>
        <p:blipFill>
          <a:blip r:embed="rId3"/>
          <a:stretch/>
        </p:blipFill>
        <p:spPr>
          <a:xfrm>
            <a:off x="5638680" y="0"/>
            <a:ext cx="35053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zen Whole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frozen_baby_mammoth"/>
          <p:cNvPicPr/>
          <p:nvPr/>
        </p:nvPicPr>
        <p:blipFill>
          <a:blip r:embed="rId1"/>
          <a:stretch/>
        </p:blipFill>
        <p:spPr>
          <a:xfrm>
            <a:off x="0" y="2400480"/>
            <a:ext cx="3543480" cy="4457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encinoman1992429_f1"/>
          <p:cNvPicPr/>
          <p:nvPr/>
        </p:nvPicPr>
        <p:blipFill>
          <a:blip r:embed="rId2"/>
          <a:stretch/>
        </p:blipFill>
        <p:spPr>
          <a:xfrm>
            <a:off x="5524560" y="1724040"/>
            <a:ext cx="361944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Your Foldab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You will need 13 full sheets of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d 6 pieces of paper in half – hambu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all six in half along the f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3200400"/>
            <a:ext cx="297180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14800" y="4724280"/>
            <a:ext cx="26668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533520" y="4800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950640" y="3236760"/>
            <a:ext cx="24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 along dotted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all six along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447920" y="6172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Arrow Connector 14"/>
          <p:cNvCxnSpPr/>
          <p:nvPr/>
        </p:nvCxnSpPr>
        <p:spPr>
          <a:xfrm>
            <a:off x="380520" y="3504960"/>
            <a:ext cx="1080" cy="2896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1" name="TextBox 15"/>
          <p:cNvSpPr/>
          <p:nvPr/>
        </p:nvSpPr>
        <p:spPr>
          <a:xfrm rot="16200000">
            <a:off x="-44280" y="4692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17"/>
          <p:cNvCxnSpPr/>
          <p:nvPr/>
        </p:nvCxnSpPr>
        <p:spPr>
          <a:xfrm>
            <a:off x="609120" y="6629040"/>
            <a:ext cx="2591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16002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Tar 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Pit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la-brea-tar-pits"/>
          <p:cNvPicPr/>
          <p:nvPr/>
        </p:nvPicPr>
        <p:blipFill>
          <a:blip r:embed="rId1"/>
          <a:stretch/>
        </p:blipFill>
        <p:spPr>
          <a:xfrm>
            <a:off x="0" y="3408480"/>
            <a:ext cx="5038560" cy="3449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84914373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84915469"/>
          <p:cNvPicPr/>
          <p:nvPr/>
        </p:nvPicPr>
        <p:blipFill>
          <a:blip r:embed="rId3"/>
          <a:stretch/>
        </p:blipFill>
        <p:spPr>
          <a:xfrm>
            <a:off x="2590920" y="0"/>
            <a:ext cx="24066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creation-labrea_tar_pits_pit_91"/>
          <p:cNvPicPr/>
          <p:nvPr/>
        </p:nvPicPr>
        <p:blipFill>
          <a:blip r:embed="rId1"/>
          <a:stretch/>
        </p:blipFill>
        <p:spPr>
          <a:xfrm>
            <a:off x="0" y="3417840"/>
            <a:ext cx="5638680" cy="344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3216062959_3f7045e2cf_o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3452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workgpit"/>
          <p:cNvPicPr/>
          <p:nvPr/>
        </p:nvPicPr>
        <p:blipFill>
          <a:blip r:embed="rId3"/>
          <a:stretch/>
        </p:blipFill>
        <p:spPr>
          <a:xfrm>
            <a:off x="0" y="0"/>
            <a:ext cx="5562720" cy="37544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6097320" y="4038480"/>
            <a:ext cx="2573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RTY JOB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es t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r P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04920" y="7617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Mold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trilobite 2"/>
          <p:cNvPicPr/>
          <p:nvPr/>
        </p:nvPicPr>
        <p:blipFill>
          <a:blip r:embed="rId1"/>
          <a:stretch/>
        </p:blipFill>
        <p:spPr>
          <a:xfrm>
            <a:off x="0" y="2906640"/>
            <a:ext cx="5181480" cy="3951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CastMold560"/>
          <p:cNvPicPr/>
          <p:nvPr/>
        </p:nvPicPr>
        <p:blipFill>
          <a:blip r:embed="rId2"/>
          <a:stretch/>
        </p:blipFill>
        <p:spPr>
          <a:xfrm>
            <a:off x="3809880" y="3057480"/>
            <a:ext cx="5334120" cy="3800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ammonite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3054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6ammonite-laguna"/>
          <p:cNvPicPr/>
          <p:nvPr/>
        </p:nvPicPr>
        <p:blipFill>
          <a:blip r:embed="rId4"/>
          <a:stretch/>
        </p:blipFill>
        <p:spPr>
          <a:xfrm>
            <a:off x="2209680" y="0"/>
            <a:ext cx="3429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Impress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archaeopteryx"/>
          <p:cNvPicPr/>
          <p:nvPr/>
        </p:nvPicPr>
        <p:blipFill>
          <a:blip r:embed="rId1"/>
          <a:stretch/>
        </p:blipFill>
        <p:spPr>
          <a:xfrm>
            <a:off x="0" y="3814920"/>
            <a:ext cx="5867280" cy="3043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beechleaf carbon film"/>
          <p:cNvPicPr/>
          <p:nvPr/>
        </p:nvPicPr>
        <p:blipFill>
          <a:blip r:embed="rId2"/>
          <a:stretch/>
        </p:blipFill>
        <p:spPr>
          <a:xfrm>
            <a:off x="0" y="0"/>
            <a:ext cx="2960640" cy="3809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make-fossil-model-200X200"/>
          <p:cNvPicPr/>
          <p:nvPr/>
        </p:nvPicPr>
        <p:blipFill>
          <a:blip r:embed="rId3"/>
          <a:stretch/>
        </p:blipFill>
        <p:spPr>
          <a:xfrm>
            <a:off x="3048120" y="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s"/>
          <p:cNvPicPr/>
          <p:nvPr/>
        </p:nvPicPr>
        <p:blipFill>
          <a:blip r:embed="rId4"/>
          <a:stretch/>
        </p:blipFill>
        <p:spPr>
          <a:xfrm>
            <a:off x="5867280" y="3886200"/>
            <a:ext cx="3124440" cy="2081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VLC030_Imprint_fossil"/>
          <p:cNvPicPr/>
          <p:nvPr/>
        </p:nvPicPr>
        <p:blipFill>
          <a:blip r:embed="rId5"/>
          <a:stretch/>
        </p:blipFill>
        <p:spPr>
          <a:xfrm>
            <a:off x="7010280" y="304920"/>
            <a:ext cx="1905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rified (Permineraliza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petrifiedlogs"/>
          <p:cNvPicPr/>
          <p:nvPr/>
        </p:nvPicPr>
        <p:blipFill>
          <a:blip r:embed="rId1"/>
          <a:stretch/>
        </p:blipFill>
        <p:spPr>
          <a:xfrm>
            <a:off x="0" y="3235320"/>
            <a:ext cx="5181480" cy="3622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CM163-06"/>
          <p:cNvPicPr/>
          <p:nvPr/>
        </p:nvPicPr>
        <p:blipFill>
          <a:blip r:embed="rId2"/>
          <a:stretch/>
        </p:blipFill>
        <p:spPr>
          <a:xfrm>
            <a:off x="4724280" y="320040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PetrifiedWood"/>
          <p:cNvPicPr/>
          <p:nvPr/>
        </p:nvPicPr>
        <p:blipFill>
          <a:blip r:embed="rId3"/>
          <a:stretch/>
        </p:blipFill>
        <p:spPr>
          <a:xfrm>
            <a:off x="2971800" y="914400"/>
            <a:ext cx="3448080" cy="2585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sharkteeth"/>
          <p:cNvPicPr/>
          <p:nvPr/>
        </p:nvPicPr>
        <p:blipFill>
          <a:blip r:embed="rId4"/>
          <a:stretch/>
        </p:blipFill>
        <p:spPr>
          <a:xfrm>
            <a:off x="6000840" y="914400"/>
            <a:ext cx="314316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fossil-bone"/>
          <p:cNvPicPr/>
          <p:nvPr/>
        </p:nvPicPr>
        <p:blipFill>
          <a:blip r:embed="rId5"/>
          <a:stretch/>
        </p:blipFill>
        <p:spPr>
          <a:xfrm>
            <a:off x="0" y="838080"/>
            <a:ext cx="300024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19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L02_fossil_hpl922"/>
          <p:cNvPicPr/>
          <p:nvPr/>
        </p:nvPicPr>
        <p:blipFill>
          <a:blip r:embed="rId1"/>
          <a:stretch/>
        </p:blipFill>
        <p:spPr>
          <a:xfrm>
            <a:off x="0" y="3619440"/>
            <a:ext cx="5181480" cy="3238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Trace_fossil"/>
          <p:cNvPicPr/>
          <p:nvPr/>
        </p:nvPicPr>
        <p:blipFill>
          <a:blip r:embed="rId2"/>
          <a:stretch/>
        </p:blipFill>
        <p:spPr>
          <a:xfrm>
            <a:off x="0" y="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Trace%20fossils%20on%20sandstone%20bedding%20plane"/>
          <p:cNvPicPr/>
          <p:nvPr/>
        </p:nvPicPr>
        <p:blipFill>
          <a:blip r:embed="rId3"/>
          <a:stretch/>
        </p:blipFill>
        <p:spPr>
          <a:xfrm>
            <a:off x="4915080" y="1219320"/>
            <a:ext cx="4228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rolites/Gastroli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6fssl-gastroliths-mules1"/>
          <p:cNvPicPr/>
          <p:nvPr/>
        </p:nvPicPr>
        <p:blipFill>
          <a:blip r:embed="rId1"/>
          <a:stretch/>
        </p:blipFill>
        <p:spPr>
          <a:xfrm>
            <a:off x="5105520" y="1143000"/>
            <a:ext cx="3149640" cy="5181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oprolite"/>
          <p:cNvPicPr/>
          <p:nvPr/>
        </p:nvPicPr>
        <p:blipFill>
          <a:blip r:embed="rId2"/>
          <a:stretch/>
        </p:blipFill>
        <p:spPr>
          <a:xfrm>
            <a:off x="304920" y="914400"/>
            <a:ext cx="3752640" cy="3171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coprolite"/>
          <p:cNvPicPr/>
          <p:nvPr/>
        </p:nvPicPr>
        <p:blipFill>
          <a:blip r:embed="rId3"/>
          <a:stretch/>
        </p:blipFill>
        <p:spPr>
          <a:xfrm>
            <a:off x="304920" y="4038480"/>
            <a:ext cx="3809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/Desiccated Foss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188181_f260"/>
          <p:cNvPicPr/>
          <p:nvPr/>
        </p:nvPicPr>
        <p:blipFill>
          <a:blip r:embed="rId1"/>
          <a:srcRect l="55386" t="0" r="0" b="0"/>
          <a:stretch/>
        </p:blipFill>
        <p:spPr>
          <a:xfrm>
            <a:off x="0" y="0"/>
            <a:ext cx="2367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Mummification"/>
          <p:cNvPicPr/>
          <p:nvPr/>
        </p:nvPicPr>
        <p:blipFill>
          <a:blip r:embed="rId2"/>
          <a:srcRect l="6172" t="8213" r="10286" b="8213"/>
          <a:stretch/>
        </p:blipFill>
        <p:spPr>
          <a:xfrm>
            <a:off x="4624560" y="3459240"/>
            <a:ext cx="4519440" cy="3398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sharkmummy"/>
          <p:cNvPicPr/>
          <p:nvPr/>
        </p:nvPicPr>
        <p:blipFill>
          <a:blip r:embed="rId3"/>
          <a:stretch/>
        </p:blipFill>
        <p:spPr>
          <a:xfrm>
            <a:off x="5029200" y="1219320"/>
            <a:ext cx="3657600" cy="24508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0"/>
          <p:cNvSpPr/>
          <p:nvPr/>
        </p:nvSpPr>
        <p:spPr>
          <a:xfrm>
            <a:off x="7546320" y="15238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2" descr="urumchi"/>
          <p:cNvPicPr/>
          <p:nvPr/>
        </p:nvPicPr>
        <p:blipFill>
          <a:blip r:embed="rId4"/>
          <a:stretch/>
        </p:blipFill>
        <p:spPr>
          <a:xfrm>
            <a:off x="2209680" y="1676520"/>
            <a:ext cx="2838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lf 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d it three times hamburger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533520" y="3276720"/>
            <a:ext cx="2819160" cy="320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886200" y="4800600"/>
            <a:ext cx="26668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086600" y="4800600"/>
            <a:ext cx="12952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533520" y="48006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5181480" y="4800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7086600" y="5638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886200" y="2514600"/>
            <a:ext cx="525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Leave the paper folded i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mallest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Fold once more hot dog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your half 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d it twice hot do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 - You end up with 32 box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85800" y="2666880"/>
            <a:ext cx="32767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572000" y="2666880"/>
            <a:ext cx="16765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>
            <a:off x="228600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>
            <a:off x="5410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685800" y="1981080"/>
            <a:ext cx="7924680" cy="434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685800" y="29718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685800" y="40384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685800" y="51814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167652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266688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358128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457200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556272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655308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762012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685800" y="2209680"/>
            <a:ext cx="7924680" cy="434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685800" y="32004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685800" y="42670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685800" y="54100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>
            <a:off x="1676520" y="22096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2666880" y="22096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>
            <a:off x="3581280" y="22096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4572000" y="22096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5562720" y="22096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6553080" y="22096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7620120" y="22096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sheet that you folded (32 squares) on top of one half 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the bottom right hand square out of both she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is sheet a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7620120" y="5410080"/>
            <a:ext cx="99036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85800" y="1981080"/>
            <a:ext cx="7924680" cy="434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85800" y="29718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685800" y="40384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685800" y="51814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167652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266688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358128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457200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556272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655308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762012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peat this process with another one of the half sheets except cut the first and second square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lace this sheet on top of the fir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7620120" y="5181480"/>
            <a:ext cx="99036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6553080" y="5181480"/>
            <a:ext cx="10670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85800" y="1981080"/>
            <a:ext cx="7924680" cy="434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685800" y="29718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685800" y="40384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685800" y="51814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167652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266688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358128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457200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556272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655308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762012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.  Repeat 5 times cutting one more square each tim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.  Place each sheet on top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You will end up with 7 pieces of paper with tab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7620120" y="5181480"/>
            <a:ext cx="99036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6553080" y="5181480"/>
            <a:ext cx="10670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ake the top sheet and set it to the sid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lace the next sheet on top of i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sheet that was on the top should now be on the bottom and vice vers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57200" y="1905120"/>
            <a:ext cx="3505320" cy="464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048120" y="1905120"/>
            <a:ext cx="914400" cy="403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48120" y="47242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048120" y="5410080"/>
            <a:ext cx="9144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048120" y="3352680"/>
            <a:ext cx="91440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3048120" y="4038480"/>
            <a:ext cx="9144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3048120" y="1905120"/>
            <a:ext cx="91440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3048120" y="2666880"/>
            <a:ext cx="91440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438280" y="640080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350532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3505320" y="51055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6"/>
          <p:cNvSpPr/>
          <p:nvPr/>
        </p:nvSpPr>
        <p:spPr>
          <a:xfrm>
            <a:off x="3505320" y="4343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>
            <a:off x="3505320" y="3657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3505320" y="29718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9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34:42Z</dcterms:created>
  <dc:creator>student</dc:creator>
  <dc:description/>
  <dc:language>en-US</dc:language>
  <cp:lastModifiedBy>LCS Staff</cp:lastModifiedBy>
  <dcterms:modified xsi:type="dcterms:W3CDTF">2013-10-21T16:30:04Z</dcterms:modified>
  <cp:revision>23</cp:revision>
  <dc:subject/>
  <dc:title>Fossil S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